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125A-F6DC-4848-A992-17EA7C97E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FFF2-EB0C-4567-92F0-FAB3F089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19B7-2459-4DD6-964B-9C23DA235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AFF3-F719-45D8-AECE-BA824B457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755A-3F3D-4C7F-BA7D-A3AFE4B3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DADB-2086-4D38-B311-09956BA0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6002-811E-48F3-90A1-0F9FD52A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D5AC-3C77-4444-8227-000C6298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14A7-C60E-48D5-A544-13F363E5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09AF-5244-45DC-92BD-DF15B9AC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CA28-03E9-4ECE-8B76-8918AA23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6097-5D6D-44CF-A1C6-D9F0DE49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9169-9876-48A7-93E8-9C8D960FAD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de 3 Fluency Un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heck my fluency with addition &amp; subt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view strategies for add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view strategies for subt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282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Grade 3 – Unit 3 cont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interpret and apply comparison languag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present and solve comparison word problems with misleading languag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present and solve multi-digit word problems with unknown partners and express relationships as equations and inequaliti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present and solve multi-digit word problems with unknown start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7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present and solve multi-digit comparison problem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present and solve multi-digit comparison problems with misleading languag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0492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3 – Unit 3 co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represent and solve a variety of multi-digit word proble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olve a variety of problems using mathematical concepts and skil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use the mathematical processes of problem solving, connections, reasoning and proof, communication, and represent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3 - Unit 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raw lines of symmetr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identify congruent halves of figures and congruent figur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52280" y="152280"/>
            <a:ext cx="88394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3 – Unit 4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label and name figures using lett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understand the relationship between the diagonals of quadrilaterals and the triangles they for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understand what an angle is and name angles by siz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escribe and name polyg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understand the relationship between quadrilaterals and triang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52280" y="151920"/>
            <a:ext cx="876312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3 – Unit 4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estimate angle measures by comparing them to angles with known meas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iscover that the sum of the measures of the angles in any triangle is 180 degre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the measures of two angles in a triangle, I can find the measure of the third ang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3- Unit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ound numbers to the nearest hund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ound to estimate sums and differences and check calcul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rade 3- Unit 5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ound numbers to the nearest hund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ound to estimate sums and differences and check calculations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ound numbers to the nearest 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use rounding to estimate sums and differen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estimate quantit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mpare and order whole numb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mpare the values of express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rade 3 – Unit 5 cont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review the values of a penny, nickel, dime, and quart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etermine and compare the values of collections of coins and bil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n represent amounts of  money in various way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practice counting out the exact amount of money to make a purchas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52280" y="228600"/>
            <a:ext cx="87631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rade 3 – Unit 5 cont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use 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Counting 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strategy to make change from purchas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round money amounts to the nearest dime or dolla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make estimates in real-world situations involving mone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interpret information in tabl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write and solve problems based on tables with dat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5228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Grade 3 – Unit 5 cont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9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use information in tables to create and solve word problem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complete tabl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10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create a simple tabl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practice completing tables in which there is a mathematical relationship between the colum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1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present and solve word problems with extra or hidden informa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1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identify word problems with not enough information to solve and identify the information neede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write word problems with not enough informa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3 – Unit 5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word problems requiring two ste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multi-step word problems requiring two or more ste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write and answer questions using horizontal and vertical bar grap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reate bar graphs to represent data from tab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find the mode and range of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28600" y="15228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Grade 3 – Unit 5 cont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1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analyze data in horizontal and vertical bar graph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use information in a table to create horizontal and vertical bar graph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17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construct and analyze frequency tables and line plot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match a set of data with a graph and describe the important featur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1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solve a variety of problems using mathematical concepts and skill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use the mathematical processes of problem solving, connections, reasoning and proof, communication and representa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3-Unit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make and interpret place value draw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cognize that 1000 is 10 hundre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identify the value of a dig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make drawings to represent money amou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group and ungroup multi-digit numb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word problems that require an understanding of place val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3- Unit 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recognize and describe slides, flips and tur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recognize slides, flips, and turns in geometric patterns and can create patter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identify and continue a repeating number patter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identify and continue a repeating geometric patter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identify and continue a number pattern that grows or shrink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identify and continue a geometric pattern that grows or shrink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5228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Grade 3- Unit 7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explore patterns in 5s count-bys and multiplicatio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learn important multiplication vocabular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use multiplication to represent repeated groups situatio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use drawings to help solve word problems involving repeated group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use multiplication to represent array situatio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use drawings to help solve word problems involving array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understand that multiplication is communicativ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28240" y="152280"/>
            <a:ext cx="84582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Grade 3 – Unit 7 c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late division to multiplica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present and solve division word problem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explore patterns in 2’s count-bys and multiplicatio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interpret a pictograph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explore patterns in 10s count-bys, multiplication and divis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7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explore patterns in 9s multiplications and divisio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use a strategy for multiplying and dividing with 9s quickly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28240" y="151920"/>
            <a:ext cx="853452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3 – Unit 7 co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practice 2s, 5s, 9s, and 10s multiplications and divis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explore patterns in 3s count-bys, multiplications and divis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a strategy for finding count-bys and products for multipliers greater than 5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nderstand the area model for multiplic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a shortcut for solving a multiplication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52280" y="15228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3 – Unit 7 co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recognize and identify multiplication and division word proble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write and solve multiplication and division word proble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explore patterns in 4s multiplication and count-by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use a strategy for finding 4s count-bys and solving problems involving 4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understand the relationships in the fast arra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evelop multiplication and division strateg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28600" y="15228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3 – Unit 7 co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look for patterns in 1s multiplication, count-by, and divis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explore multiplications and divisions with zero and learn that divisions by zero are not possi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investigate 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Properties of Addition and Multiplica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practice with 2s, 3s, 4s, 5s, 9s, and 10s multiplication and divis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practice multiplication and division for 0s, 1s, 2s, 3s, 4s, 5s, 9s, and 10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olve multiplication and division word problem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3 – Unit 7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a variety of problems using mathematical concepts and ski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use the mathematical processes of problem solving, connections, reasoning and proof, communication and represen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52280" y="15228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3 Unit 1 co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identify numbers from scrambled place value nam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olve place value word proble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iscuss and apply multi-digit addition method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make proof drawings to show that addition methods are correc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apply and discuss multi-digit addition method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iscuss why it is necessary to align places before add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3 – Unit 1 co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add money amou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ecide when and how to group in multi-digit addi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practice adding money amou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practice adding money amou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identify and explain errors in addition proble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explore methods  of subtracting multi-digit numb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iscuss a common subtraction err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52280" y="15228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3 – Unit 1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ubtract with zeros in the top numb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olve subtraction problems involving mone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ubtract using two different metho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explain when and how to ungroup when subtracting multi-digit numb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late grouping in addition and ungrouping in subtra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practice and discuss subtraction metho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5228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3 – Unit 1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practice and discuss addition and subtraction metho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a variety of problems using mathematical concepts and ski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use the mathematical processes of problem solving, connections, reasoning and proof, communication, and represen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600" y="15228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3 - Unit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measure lengths to the nearest centime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raw line segments of given lengt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find perimeters of triangles and quadrilater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identify and find examples to illustrate the terms,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line, line segment, parallel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erpendicul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identify opposite and adjacent sides of quadrilater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Grade 3 – Unit 2 c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develop definitions for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parallelogram,  rectangle, square,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rhombu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explore the relationships among parallelograms,  rectangles, squares, and rhombus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find the perimeters of rectangles and  squares without measuring all four sid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draw parallelograms and rectangl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observe the relationship between the dimensions of a rectangle and its perimete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view the features of quadrilaterals, parallelograms, rectangles and squar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describe the relationships among various types of quadrilateral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04920" y="15228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Grade 3- Unit 3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 can represent and solve a variety of word problem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 can review the relationships between addition and subtractio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 can represent and solve a variety of word problem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 can review the relationships between addition and subtractio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 can represent and solve word problems with unknown start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 can convert situation equations to solution equation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 can interpret and use comparison language such as the words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mor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fewe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to solve word problem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 can represent and solve comparison word problem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4T16:57:22Z</dcterms:created>
  <dc:creator>MCPS</dc:creator>
  <dc:description/>
  <dc:language>en-US</dc:language>
  <cp:lastModifiedBy>an MCPS user</cp:lastModifiedBy>
  <dcterms:modified xsi:type="dcterms:W3CDTF">2010-11-18T13:36:16Z</dcterms:modified>
  <cp:revision>136</cp:revision>
  <dc:subject/>
  <dc:title>Slide 1</dc:title>
</cp:coreProperties>
</file>